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EE29A-3835-4CFB-A5B8-E9D4AC8D5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7CF3-A1EB-4677-801E-E47CF2B6D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47117-7A26-4631-936F-0E0939359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0B5D1-D982-4AFA-8B5C-3350544F0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BCC771-C9F4-4948-834D-F21D57C34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6C08B-578F-4EFB-940C-C2843CE79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3168F-4AC3-4C08-9761-5B74C3237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4A69A-7E26-44BE-B378-3715AA524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C97A8-E833-4E4E-8CEA-0A12A29CC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C1EEA-FC46-46AA-9AF8-5C34E55DF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5BDBC-357D-423C-97C9-EB4E762C3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93215-A67A-4974-8F05-AD8164683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61A59-C893-4D80-96B5-17AE395E6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8F6E7-A004-4BAC-9517-CC48E8DB4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3290F-9F3B-4F8F-8DC4-28D24FD38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3EE45-594F-4D91-8230-E6CD5798B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C54AC-64D9-456E-ABF8-878EF0B059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37C61-D8CB-414E-BA7F-2146325F1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5CC3B-27B8-4B44-B51B-CB8252E1C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0CCC3-BD14-4874-865D-FF7EC1F8C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386FC-AA1C-4FD6-94DF-458A1C2BC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49C6B-C809-47DD-B6E2-5084E9D93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6CF8E-8C3B-430C-9A64-CDB9DF1A5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E193-CA67-4714-B3F8-A20A077A3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D918-EA48-498A-89AE-C3FBCCEEB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4B9D-9F18-4172-94BD-FAEF8E8C09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Introductions</a:t>
            </a:r>
            <a:endParaRPr b="1" lang="en-US" sz="4400" spc="-1" strike="noStrike">
              <a:solidFill>
                <a:srgbClr val="feec94"/>
              </a:solidFill>
              <a:latin typeface="Times New Roman"/>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ashlight vs. Floodlight:</a:t>
            </a:r>
            <a:endParaRPr b="0" lang="en-US" sz="2800" spc="-1" strike="noStrike">
              <a:solidFill>
                <a:srgbClr val="ffffff"/>
              </a:solidFill>
              <a:latin typeface="Times New Roman"/>
            </a:endParaRPr>
          </a:p>
          <a:p>
            <a:pPr lvl="1" marL="676080" indent="-25992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ould offer a statement of purpose</a:t>
            </a:r>
            <a:endParaRPr b="0" lang="en-US" sz="2400" spc="-1" strike="noStrike">
              <a:solidFill>
                <a:srgbClr val="ffffff"/>
              </a:solidFill>
              <a:latin typeface="Times New Roman"/>
            </a:endParaRPr>
          </a:p>
          <a:p>
            <a:pPr lvl="1" marL="676080" indent="-25992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plain the thesis statement by providing necessary background or context</a:t>
            </a:r>
            <a:endParaRPr b="0" lang="en-US" sz="2400" spc="-1" strike="noStrike">
              <a:solidFill>
                <a:srgbClr val="ffffff"/>
              </a:solidFill>
              <a:latin typeface="Times New Roman"/>
            </a:endParaRPr>
          </a:p>
          <a:p>
            <a:pPr lvl="1" marL="676080" indent="-25992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should not list everything the paper will try to discover or explain.  </a:t>
            </a:r>
            <a:endParaRPr b="0" lang="en-US" sz="2400" spc="-1" strike="noStrike">
              <a:solidFill>
                <a:srgbClr val="ffffff"/>
              </a:solidFill>
              <a:latin typeface="Times New Roman"/>
            </a:endParaRPr>
          </a:p>
          <a:p>
            <a:pPr lvl="1" marL="676080" indent="-25992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should point out the direction of the paper without attempting to illuminate the entire subject in a paragraph.</a:t>
            </a:r>
            <a:endParaRPr b="0" lang="en-US" sz="2400" spc="-1" strike="noStrike">
              <a:solidFill>
                <a:srgbClr val="ffffff"/>
              </a:solidFill>
              <a:latin typeface="Times New Roman"/>
            </a:endParaRPr>
          </a:p>
          <a:p>
            <a:pPr lvl="1" marL="676080" indent="-25992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fine your topic-the issue, question, or problem-and why it matters.</a:t>
            </a:r>
            <a:endParaRPr b="0" lang="en-US" sz="2400" spc="-1" strike="noStrike">
              <a:solidFill>
                <a:srgbClr val="ffffff"/>
              </a:solidFill>
              <a:latin typeface="Times New Roman"/>
            </a:endParaRPr>
          </a:p>
          <a:p>
            <a:pPr lvl="1" marL="676080" indent="-25992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andard shape in an introduction is a funnel—it starts wide, providing background and generalization, and then narrows the subject to a particular issue or topic.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Anecdote</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nk of a little story that nicely frames what your paper is about. An </a:t>
            </a:r>
            <a:r>
              <a:rPr b="1" lang="en-US" sz="3200" spc="-1" strike="noStrike">
                <a:solidFill>
                  <a:srgbClr val="ffffff"/>
                </a:solidFill>
                <a:latin typeface="Garamond"/>
              </a:rPr>
              <a:t>anecdote</a:t>
            </a:r>
            <a:r>
              <a:rPr b="0" lang="en-US" sz="3200" spc="-1" strike="noStrike">
                <a:solidFill>
                  <a:srgbClr val="ffffff"/>
                </a:solidFill>
                <a:latin typeface="Garamond"/>
              </a:rPr>
              <a:t> is a short tale narrating an interesting or amusing biographical incid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153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Definition</a:t>
            </a:r>
            <a:endParaRPr b="0" lang="en-US" sz="4400" spc="-1" strike="noStrike">
              <a:solidFill>
                <a:srgbClr val="ffffff"/>
              </a:solidFill>
              <a:latin typeface="Times New Roman"/>
            </a:endParaRPr>
          </a:p>
          <a:p>
            <a:pPr marL="315360" indent="-31536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gin with a definition applicable to your topic</a:t>
            </a:r>
            <a:endParaRPr b="0" lang="en-US" sz="3200" spc="-1" strike="noStrike">
              <a:solidFill>
                <a:srgbClr val="ffffff"/>
              </a:solidFill>
              <a:latin typeface="Times New Roman"/>
            </a:endParaRPr>
          </a:p>
          <a:p>
            <a:pPr lvl="1" marL="683280" indent="-26280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 careful of this type of attention getter.  Don’t just define a simple wor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Scene</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gin by giving your readers a look at some revealing aspect of your topic.  A paper on destruction of tropical rain forests might begin with a description of what the land looks like after loggers have left i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Profile</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y a lead that introduces someone who is important to your topic.  </a:t>
            </a:r>
            <a:endParaRPr b="0" lang="en-US" sz="2800" spc="-1" strike="noStrike">
              <a:solidFill>
                <a:srgbClr val="ffffff"/>
              </a:solidFill>
              <a:latin typeface="Times New Roman"/>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Garamond"/>
              </a:rPr>
              <a:t>Challenge a Commonly Held View</a:t>
            </a:r>
            <a:endParaRPr b="0" lang="en-US" sz="4000" spc="-1" strike="noStrike">
              <a:solidFill>
                <a:srgbClr val="ffffff"/>
              </a:solidFill>
              <a:latin typeface="Times New Roman"/>
            </a:endParaRPr>
          </a:p>
          <a:p>
            <a:pPr marL="318960" indent="-31896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provides you with a framework against which to respond; it allows you to begin by reacting.  Because you are responding to a known position, you have a ready way of integrating context into your paper.  </a:t>
            </a:r>
            <a:endParaRPr b="0" lang="en-US" sz="2800" spc="-1" strike="noStrike">
              <a:solidFill>
                <a:srgbClr val="ffffff"/>
              </a:solidFill>
              <a:latin typeface="Times New Roman"/>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Background</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ybe you could begin by providing important and possibly surprising background information on your topic.  A paper on steroid use might start by citing the explosive growth in use by high school athletes in the last ten years.  A paper on a novel or an author might begin with a review of what critics had to sa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Dialogue</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n with dialogue between people involved in your topic.  A paper discussing the connection between spousal abuse and alcoholism might begin with a conversation between the writer and a woman or man who had been abused by his or her spous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Contrast</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y a lead that compares two apparently unlike things that highlight the problem or dilemma that the paper will explore.  A student writing an essay about women attempting perfection might begin with a comparison between a young girl who married young and grew up believing in Snow White or Cinderella, and herself, who never believed in princes or white horses and was advised by her mother that it was risky to depend on a ma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Announcement</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times the most appropriate beginning is one that is direct, although not particularly compelling.  A paper with a complex topic or focus may be well served by simply stating in the beginning the main idea you’ll explore and what plan you’ll follow.  This style is commonly used in published pieces of writing in the hard sciences.  </a:t>
            </a:r>
            <a:endParaRPr b="0" lang="en-US" sz="3200" spc="-1" strike="noStrike">
              <a:solidFill>
                <a:srgbClr val="ffffff"/>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rom </a:t>
            </a:r>
            <a:r>
              <a:rPr b="0" i="1" lang="en-US" sz="1800" spc="-1" strike="noStrike">
                <a:solidFill>
                  <a:srgbClr val="ffffff"/>
                </a:solidFill>
                <a:latin typeface="Garamond"/>
              </a:rPr>
              <a:t>Writing Analytically 4</a:t>
            </a:r>
            <a:r>
              <a:rPr b="0" i="1" lang="en-US" sz="1800" spc="-1" strike="noStrike" baseline="30000">
                <a:solidFill>
                  <a:srgbClr val="ffffff"/>
                </a:solidFill>
                <a:latin typeface="Garamond"/>
              </a:rPr>
              <a:t>th</a:t>
            </a:r>
            <a:r>
              <a:rPr b="0" i="1" lang="en-US" sz="1800" spc="-1" strike="noStrike">
                <a:solidFill>
                  <a:srgbClr val="ffffff"/>
                </a:solidFill>
                <a:latin typeface="Garamond"/>
              </a:rPr>
              <a:t> edition, </a:t>
            </a:r>
            <a:r>
              <a:rPr b="0" lang="en-US" sz="1800" spc="-1" strike="noStrike">
                <a:solidFill>
                  <a:srgbClr val="ffffff"/>
                </a:solidFill>
                <a:latin typeface="Garamond"/>
              </a:rPr>
              <a:t>by David Rossenwasser and Jill Stephe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iterary Essay Introductions</a:t>
            </a:r>
            <a:endParaRPr b="1" lang="en-US" sz="4400" spc="-1" strike="noStrike">
              <a:solidFill>
                <a:srgbClr val="feec94"/>
              </a:solidFill>
              <a:latin typeface="Times New Roman"/>
            </a:endParaRPr>
          </a:p>
        </p:txBody>
      </p:sp>
      <p:sp>
        <p:nvSpPr>
          <p:cNvPr id="137"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gin with a hook or attention getter</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the title of the work, author, and year of publication</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e a bridge to the thesis:</a:t>
            </a:r>
            <a:endParaRPr b="0" lang="en-US" sz="3200" spc="-1" strike="noStrike">
              <a:solidFill>
                <a:srgbClr val="ffffff"/>
              </a:solidFill>
              <a:latin typeface="Times New Roman"/>
            </a:endParaRPr>
          </a:p>
          <a:p>
            <a:pPr lvl="1" marL="713160" indent="-27432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 a brief 2-3 sentence summary of the piece</a:t>
            </a:r>
            <a:endParaRPr b="0" lang="en-US" sz="2800" spc="-1" strike="noStrike">
              <a:solidFill>
                <a:srgbClr val="ffffff"/>
              </a:solidFill>
              <a:latin typeface="Times New Roman"/>
            </a:endParaRPr>
          </a:p>
          <a:p>
            <a:pPr lvl="1" marL="713160" indent="-27432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ain any additional ideas that will be discussed.</a:t>
            </a:r>
            <a:endParaRPr b="0" lang="en-US" sz="2800" spc="-1" strike="noStrike">
              <a:solidFill>
                <a:srgbClr val="ffffff"/>
              </a:solidFill>
              <a:latin typeface="Times New Roman"/>
            </a:endParaRPr>
          </a:p>
          <a:p>
            <a:pPr lvl="2" marL="1097280" indent="-21924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 the theme, conflict, or other terms that need to be clarified</a:t>
            </a:r>
            <a:endParaRPr b="0" lang="en-US" sz="24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is statement </a:t>
            </a:r>
            <a:endParaRPr b="0" lang="en-US" sz="3200" spc="-1" strike="noStrike">
              <a:solidFill>
                <a:srgbClr val="ffffff"/>
              </a:solidFill>
              <a:latin typeface="Times New Roman"/>
            </a:endParaRPr>
          </a:p>
          <a:p>
            <a:pPr lvl="1" marL="713160" indent="-27432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097280" indent="-219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5:08:04Z</dcterms:created>
  <dc:creator>klrodems</dc:creator>
  <dc:description/>
  <dc:language>en-US</dc:language>
  <cp:lastModifiedBy>Rodems, Kathleen Louise</cp:lastModifiedBy>
  <dcterms:modified xsi:type="dcterms:W3CDTF">2017-08-29T14:11:33Z</dcterms:modified>
  <cp:revision>16</cp:revision>
  <dc:subject/>
  <dc:title>Introductions</dc:title>
</cp:coreProperties>
</file>